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2058-8E08-40BB-B658-D0482CFF3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CA90-515C-48B0-8037-9E5D29A8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1A55-A4D3-4BC6-936E-5EB3CEAEF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5B0F-2F0C-4314-B6D7-94D460C4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88D8-CE75-4EF0-AC4C-53759B48A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B363-E7E2-4DDD-A447-1F5A315E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58BE-DAAB-4C1D-861A-6C67502F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C84E-AE24-450F-916C-6E42D1DE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F69C-9D38-41E6-A4ED-E9485917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0975-9058-4462-B039-03FDE48A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87BC-C9FD-4C5B-BEC2-72639110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7776-42BE-4CAC-BDB3-7D870EDB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2A69-5C7E-4DE0-B653-5BEC1430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334B-F329-4536-9C6C-C71EDA6F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5A40-5954-4269-8B1F-76DC11A1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926F-1E8C-4E7C-A694-3325C110E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C78F-7815-4FC7-9A9A-AFD28658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2382-A330-4A47-856C-01BDC1DA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A65A-A4B0-4B0B-8C8A-E21DAD7F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0058-5E46-4E74-BE39-11AA183B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6433-7C24-4B6E-8D1A-3A20D4CA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1956-CA90-4BB5-BCA0-57854933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B06F-9777-4F4C-AE71-450BB97A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B893-85CE-47CA-83D5-8EB099FC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5B80-2C13-4A72-A69A-7777AC4E4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AB21-A431-4D8B-B24C-B582170C6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Networking Gu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agrams, Logical &amp; Physical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Networking Technology - Diagram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617220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ctors affecting the design of networked information system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tibility of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produce required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secure confidentia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fulfill required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9"/>
          <a:stretch/>
        </p:blipFill>
        <p:spPr>
          <a:xfrm>
            <a:off x="6248520" y="4267080"/>
            <a:ext cx="226368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Drawing a Network Diagram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782720" y="2147760"/>
            <a:ext cx="5578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tting up a scenario for network desig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he follow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umber of work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ackbone switch, workgroups on one side a collection of required servers on the other e.g.:file, mail, web, prox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 connection and appropriate security, a firew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5T22:59:58Z</dcterms:created>
  <dc:creator>claudia.graham</dc:creator>
  <dc:description/>
  <dc:language>en-US</dc:language>
  <cp:lastModifiedBy>Kelvin Baird</cp:lastModifiedBy>
  <dcterms:modified xsi:type="dcterms:W3CDTF">2007-01-05T02:39:33Z</dcterms:modified>
  <cp:revision>54</cp:revision>
  <dc:subject/>
  <dc:title>Networking Guide</dc:title>
</cp:coreProperties>
</file>